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06905B-04D5-4CA2-A6A9-0BA79FEEAE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F12777-E776-4499-BA47-7A4A0422D1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hough democracy may have its faults, most people in democracies still believe it is the best form of government. (p.1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1144E4-C595-407C-A77D-42E3EB4FA97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person, one vote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equate and equal opportunities to express their preferences through the decision-making process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e press and free speech. No group monopolizes the marketpla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vernment addresses issues important to the public as a whole, not a select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jority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desire is to be respected, but those who do not belong to the majority are guaranteed righ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0AA3CF-B9EF-4A78-958D-0681AE55376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4AACF5-8327-4E16-985A-7427F522A92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role does the media play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7907B8-6167-4682-AB49-7298E8EE192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holds power and who influences the policies adopted by the government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government do what we want it to do? Government vs. individual responsibil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225B58-1EA8-4460-A9B3-BD92D1EF41F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 focuses on wh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FF528F-24F1-41E4-B0AA-AC653A7DC15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 focuses on wh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A052AD-A457-4B9C-86AE-6ECEC975BF6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icy is not limited to laws passed by Congress. It may include executive decisions, Supreme Court rulings, budgetary choices, or bureaucratic regulation – see Table 1.1 on p.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03E875-5DDE-4C09-8746-58327FE6EFC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5A24-FE03-493A-B934-C784E0BA1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78E7-C4FA-48C0-AC68-24BC9C54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BEB1-9986-42CB-8ABE-10F6781B8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4D89-1BAE-418B-8D12-D826CAF23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AA77-A5C3-48E5-B211-F5C914772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395D-A1E9-4562-925E-1C4A3953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0A55-E8B2-4063-86F5-AE280536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3927-2008-45C5-A278-A6D46F26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52D8-41FA-474C-8F32-AD4CDD05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85B4-C3EE-44EF-A8F3-BB66BF93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F957-05A8-41DF-9CC8-8766BF90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8433-C505-499A-A00C-6A2D6566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6466-CAA5-4857-B4B7-5523CA04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659B-2256-4E9D-8546-51D0A348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FC78-F9DE-4BB6-AA44-D6848171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9A4D-4BC8-471F-B2DF-B6BE3DCFB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6506-40C9-4659-A5FF-088FFF933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2526-D27F-4D57-A181-EACFEF68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9923-8989-4E11-B072-E2A943FC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DD60-19C5-46C4-A2ED-9B59D707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F58A-414A-4886-8BE8-0A4462B2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2303-E6D4-481A-8C19-CEADAB50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0042-F57A-4F57-8053-A0E8CF58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A092-3280-4D23-90B8-1C5D7C39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8A7237-C353-4E19-AB47-B1DE75A35232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58395E-CCD7-4556-9C28-474186FABB1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36C10D-D176-4E94-9A23-058A6AAF0079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0954FC-8B99-410A-9DBC-E2AB52874C6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roducing Government in Americ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Screen shot 2011-08-23 at 4.53.02 PM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mocracy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438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system of selecting policymakers and of organizing government so that policy represents and responds to the public</a:t>
            </a:r>
            <a:r>
              <a:rPr b="0" lang="ja-JP" sz="32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 preference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5181480" y="2023920"/>
            <a:ext cx="317340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mocratic The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quality in Voting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ffective Participation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nlightened Understand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itizen Control of the Agend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clusion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jority Rule vs. Minority Righ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mocracy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ree Theories of American Democracy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Pluralist Theory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olitics is a competition among group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o one group domina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Elite Theory: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 upper-class elite control government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Hyperpluralism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ny strong groups competing hinder government</a:t>
            </a:r>
            <a:r>
              <a:rPr b="0" lang="ja-JP" sz="24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 ability to perform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hallenges to Democracy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d Technical Expertis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ard for citizens to make well-informed decision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mited Participation in Governmen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mericans know little about leaders and policy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scalating Campaign Cost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nection between money and politic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creased influence of PAC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verse Political Interes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licy gridlock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merican Political Culture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Political Cultur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An overall set of values shared by most members of society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ements of American Political Culture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iberty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galitarianism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dividualis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aissez-Faire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pulism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Scope of Govern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Fundamental Questio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Is the government responsible for ensuring important societal goals (such as adequate healthcare or fair business practices) are achieved?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overnment Matt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703440" y="1598760"/>
            <a:ext cx="1944360" cy="2430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3284640" y="2014560"/>
            <a:ext cx="2608200" cy="1743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3"/>
          <a:stretch/>
        </p:blipFill>
        <p:spPr>
          <a:xfrm>
            <a:off x="3754440" y="4029120"/>
            <a:ext cx="1689120" cy="2435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4"/>
          <a:stretch/>
        </p:blipFill>
        <p:spPr>
          <a:xfrm>
            <a:off x="6257880" y="1878120"/>
            <a:ext cx="24289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Young People are Politically Apathetic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y?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y think they can</a:t>
            </a:r>
            <a:r>
              <a:rPr b="0" lang="ja-JP" sz="28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 make a differen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y think the political system is corrup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y don</a:t>
            </a:r>
            <a:r>
              <a:rPr b="0" lang="ja-JP" sz="28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 car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are the benefits of being informed?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stering Civic Virtu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formed Vo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ctive Political Participation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overn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institutions and processes through which public policies are made for a society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ssential Ques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How should we govern?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What should government do?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5834160" y="3478320"/>
            <a:ext cx="29638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overn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asic Functions of Govern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intain National Defens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vide Public Servi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eserve Ord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ocialize the You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llect Tax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6122880" y="1600200"/>
            <a:ext cx="2602080" cy="1893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2"/>
          <a:stretch/>
        </p:blipFill>
        <p:spPr>
          <a:xfrm>
            <a:off x="4619520" y="3902040"/>
            <a:ext cx="40672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olit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process by which we select our governmental leaders and what policies these leaders pursu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ja-JP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Who gets what, when, and how.</a:t>
            </a:r>
            <a:r>
              <a:rPr b="0" i="1" lang="ja-JP" sz="3200" spc="-1" strike="noStrike">
                <a:solidFill>
                  <a:srgbClr val="ffffff"/>
                </a:solidFill>
                <a:latin typeface="Calibri"/>
              </a:rPr>
              <a:t>”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Lasswell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o: Voters, Candidates, Groups, Part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at: Issues, Services, Benefi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ow: Voting, Lobbying, Protes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olit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Political Participatio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All the activities used by citizens to influence the selection of political leaders and the policies they pursu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: voting, protesting, civil disobedience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mericans</a:t>
            </a:r>
            <a:r>
              <a:rPr b="0" lang="ja-JP" sz="28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participation very low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olicymak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process by which policy comes into being and evolves over ti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ssential Compone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inkage Institution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licy Agend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licymaking Institu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licy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4951440" y="3265560"/>
            <a:ext cx="3735360" cy="24318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4120200" y="32446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23:58:39Z</dcterms:created>
  <dc:creator>Katie Madison</dc:creator>
  <dc:description/>
  <dc:language>en-US</dc:language>
  <cp:lastModifiedBy>madisonk Madison</cp:lastModifiedBy>
  <dcterms:modified xsi:type="dcterms:W3CDTF">2013-08-24T16:20:19Z</dcterms:modified>
  <cp:revision>28</cp:revision>
  <dc:subject/>
  <dc:title>Introducing Government in America</dc:title>
</cp:coreProperties>
</file>